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952-F4B2-4060-A59F-7B4EF60A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005-4D99-4D21-AD17-9AC8A01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6A0-5080-403A-BA6D-69E781A4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273-CAFA-44CF-BF35-9FD02247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6AC3-E58D-4AE4-96C0-E68FD443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402E-5151-45A8-9B78-605648E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E125-B0F5-4E70-8841-17CBF6C0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E3CA-EEF5-4019-9C7B-94FE0FC3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CA69-4509-43F6-B835-C7783EE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CAA1-0819-44E1-97D0-F744C3A7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4598-A732-4AF5-8083-447A2A88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8EF-5F30-4FD1-AC6C-93DF2EEB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6F2B-2217-4E10-8E86-B15386C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535B-00CE-43CA-B503-AF720FA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908-13FA-4EDD-B2D6-9B1E9CE1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44F4-A483-4DE9-9128-F60F816A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1796-2EB1-4C3D-B1D7-00716F89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69E-80BA-44D0-9852-988465F5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7A4-09B6-4675-A647-0BD52CD7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ED7-235D-41C2-87D7-0AA3967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93A-DFCA-46C7-9066-0680B5B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89B-6D27-4A65-91F5-A119B2A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D81-771D-4B34-AD51-233F91B9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DDE-1C60-4BE6-A10E-222A15B2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368F-7AFF-4936-82F0-6C64C6A507F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B41D-7B9C-4741-80B7-45695B13A59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ffiliates.art.com/get.art?T=15023284&amp;A=028853&amp;L=8&amp;P=10045024&amp;S=2&amp;Y=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arliechaplin.com/article.php3?id_article=5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Gulim"/>
              </a:rPr>
              <a:t>Charlie Chaplin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Gulim"/>
              </a:rPr>
              <a:t>(1889-1977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logo ARTICLE "/>
          <p:cNvPicPr/>
          <p:nvPr/>
        </p:nvPicPr>
        <p:blipFill>
          <a:blip r:embed="rId1"/>
          <a:stretch/>
        </p:blipFill>
        <p:spPr>
          <a:xfrm>
            <a:off x="6095880" y="685800"/>
            <a:ext cx="2183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Buy Modern Times at Art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47640"/>
            <a:ext cx="7772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  <a:ea typeface="Gulim"/>
              </a:rPr>
              <a:t>Modern Tim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Gulim"/>
              </a:rPr>
              <a:t>1936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Gulim"/>
              </a:rPr>
              <a:t>Last movie where he plays the Little Tram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Gulim"/>
              </a:rPr>
              <a:t>Man versus mach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Gulim"/>
              </a:rPr>
              <a:t>Pover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Gulim"/>
              </a:rPr>
              <a:t>The Great Depression 1929-3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724280" y="57906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Paulette Goddard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5334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990720"/>
            <a:ext cx="655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Smile, though your heart is ach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Smile, even though it’s break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When there are clouds in the sky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you’ll get b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If you smile through your fear and sorrow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Smile and maybe tomorrow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You’ll see the sun come shining throug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for you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Light up your face with gladnes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Hide every trace of sadnes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Although a tear may be ever so ne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That’s the time you must keep on try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Smile what’s the use of cry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You’ll find that life is still worthwhi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If you’ll jus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Smi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360" y="6019920"/>
            <a:ext cx="58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http://www.charliechaplin.com/article.php3?id_article=5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3:13:32Z</dcterms:created>
  <dc:creator>Generic</dc:creator>
  <dc:description/>
  <dc:language>en-US</dc:language>
  <cp:lastModifiedBy>hughp</cp:lastModifiedBy>
  <dcterms:modified xsi:type="dcterms:W3CDTF">2006-10-19T17:56:13Z</dcterms:modified>
  <cp:revision>3</cp:revision>
  <dc:subject/>
  <dc:title>Charlie Chaplin </dc:title>
</cp:coreProperties>
</file>